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8DE-1AC4-46C5-AB70-CAA049F3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6E9-93CC-4F07-ADA6-31FD5936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389-C327-4CFD-A03E-5D547621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65A-D8C0-4B16-BBCD-EDAB8376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098-23FA-4193-BEC2-F2254240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263-4484-4E16-99C6-59CA1C03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908-797A-452A-80AD-F0202A96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BDA-ABF9-4BFD-AFB5-FDC85E27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563-9420-4097-BFD2-98856A18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ECF-894B-44BA-97B5-906B55C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0F1-2347-4EA5-9EDF-34016184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488-F99E-4BAA-AACA-2B023425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74320" indent="-274320"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274320" indent="-2743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4DC7-9B2B-4952-AC53-0B9838977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ct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14.xml"/><Relationship Id="rId4" Type="http://schemas.openxmlformats.org/officeDocument/2006/relationships/slide" Target="slide19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6.xml"/><Relationship Id="rId9" Type="http://schemas.openxmlformats.org/officeDocument/2006/relationships/slide" Target="slide11.xml"/><Relationship Id="rId10" Type="http://schemas.openxmlformats.org/officeDocument/2006/relationships/slide" Target="slide16.xml"/><Relationship Id="rId11" Type="http://schemas.openxmlformats.org/officeDocument/2006/relationships/slide" Target="slide21.xml"/><Relationship Id="rId12" Type="http://schemas.openxmlformats.org/officeDocument/2006/relationships/slide" Target="slide7.xml"/><Relationship Id="rId13" Type="http://schemas.openxmlformats.org/officeDocument/2006/relationships/slide" Target="slide12.xml"/><Relationship Id="rId14" Type="http://schemas.openxmlformats.org/officeDocument/2006/relationships/slide" Target="slide17.xml"/><Relationship Id="rId15" Type="http://schemas.openxmlformats.org/officeDocument/2006/relationships/slide" Target="slide22.xml"/><Relationship Id="rId16" Type="http://schemas.openxmlformats.org/officeDocument/2006/relationships/slide" Target="slide8.xml"/><Relationship Id="rId17" Type="http://schemas.openxmlformats.org/officeDocument/2006/relationships/slide" Target="slide13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066680"/>
            <a:ext cx="7772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This Is</a:t>
            </a:r>
            <a:endParaRPr b="0" lang="en-US" sz="18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Jeopardy</a:t>
            </a:r>
            <a:endParaRPr b="0" lang="en-US" sz="18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>
    <p:newsflash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6 - 18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 + 8 x 6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aluate 2n   when n = 10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 + 1.7 = 2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n = 225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table shows the result of drawing colored socks from a drawer.  Each sock that was drawn was returned to the dra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k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w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vy 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8600" y="31690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probability of picking a black s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cimal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200 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table shows the result of drawing colored socks from a drawer.  Each sock that was drawn was returned to the dra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0" y="129528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k 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w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vy 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3520" y="2950200"/>
            <a:ext cx="373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probability of picking a black or brown s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ercent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380880" y="5943600"/>
            <a:ext cx="67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609480" y="56386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300 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mperature (in F) for the fir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days in June for Reno, Nev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em    Le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0  8  8  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2  3  5  7  8  8  8 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1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0  0  1  2  2  7 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8600" y="5180760"/>
            <a:ext cx="67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means 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555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400 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447920"/>
            <a:ext cx="769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mperature (in F) for the 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days in June for Reno, Nev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em   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9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0  8  8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2  3  5  7  8  8  8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1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0  0  1  2  2  7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99716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highest temperature?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lowest temperature?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19555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36b4be"/>
                </a:solidFill>
                <a:latin typeface="Arial Black"/>
              </a:rPr>
              <a:t> Probability and Statistics</a:t>
            </a:r>
            <a:endParaRPr b="0" lang="en-US" sz="40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0040" y="5509080"/>
            <a:ext cx="870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 of the students like strawberry more than vanil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1386000"/>
            <a:ext cx="65818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Geometry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the triangle by its (A) sides  (B) ang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)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B)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m                 7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200400"/>
            <a:ext cx="2743200" cy="22096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68580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s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rs. McGr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803760" cy="345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68440" y="61815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ly created by Mrs. Wineg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Geometry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measurement of the third angle in a triangle whose other angles measure 45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° and 63°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114800"/>
            <a:ext cx="3048120" cy="2133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Geometry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nd the circumference of a circle whos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ameter = 7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343400"/>
            <a:ext cx="182880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Geometry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38080" y="1828800"/>
          <a:ext cx="7545600" cy="4371840"/>
        </p:xfrm>
        <a:graphic>
          <a:graphicData uri="http://schemas.openxmlformats.org/drawingml/2006/table">
            <a:tbl>
              <a:tblPr/>
              <a:tblGrid>
                <a:gridCol w="7329600"/>
                <a:gridCol w="216000"/>
              </a:tblGrid>
              <a:tr h="30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 DOUBL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the best math teacher?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6063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Geometry 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6668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76520"/>
            <a:ext cx="73152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nd the circumference of a circle who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adius = 15 c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876920"/>
            <a:ext cx="182880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triangle has a height of 6cm and a width of 10cm.  What is its are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724280"/>
            <a:ext cx="2666880" cy="1828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ectangular dog run has a perimeter of 144 feet.  The length is 40 feet.  What is the widt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724280"/>
            <a:ext cx="28195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 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6553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ectangular rug has an area of 345 square feet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its length is 15 feet, what is its widt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4160" y="4572000"/>
            <a:ext cx="35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724280"/>
            <a:ext cx="28195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rs. McGrath has a rectangular jewelry box that is 9 inches long, 6 inches wide, and 4 inches deep.  What is the volume of the bo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5105520"/>
            <a:ext cx="1974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276720"/>
            <a:ext cx="419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43600" y="4268880"/>
            <a:ext cx="29527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Measurement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andscaper delivered a load of topsoil in a small dump truck.  The bed of the truck is 10 feet long, 5 feet wide, and 4 feet hig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psoil costs $1.20/cubic y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ost of the topso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229392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17.85 ÷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No Calculators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19320" y="228600"/>
            <a:ext cx="6705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1800" spc="1" strike="noStrike">
              <a:ln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14400" y="1447920"/>
          <a:ext cx="7315200" cy="5316480"/>
        </p:xfrm>
        <a:graphic>
          <a:graphicData uri="http://schemas.openxmlformats.org/drawingml/2006/table">
            <a:tbl>
              <a:tblPr/>
              <a:tblGrid>
                <a:gridCol w="1143000"/>
                <a:gridCol w="1295280"/>
                <a:gridCol w="1219320"/>
                <a:gridCol w="1295280"/>
                <a:gridCol w="1143000"/>
                <a:gridCol w="1219320"/>
              </a:tblGrid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xpande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lgeb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bablilty and Statis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omet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easur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5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8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9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0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2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3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4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5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6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7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8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% of the students on Team 2 wore green on St. Patrick’s Day.  If there are 145 students on the team, how many wore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 Calculator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0"/>
          <a:ext cx="600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477120" y="4419720"/>
            <a:ext cx="203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          __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      2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No Calculators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38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5715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 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the R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 Calculator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7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.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7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81040" y="5757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533520" y="51814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Whatever!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ar traveled 213.6 miles on exactly 8 gallons of g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miles per gallon did the car get? (No Calculators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2440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8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+ (5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2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0,03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3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ILY DOUBLE!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West Middle Masco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4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0,40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onential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5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 Expanded Form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3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+ (8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+ (1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+ (4 x 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$100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36b4be"/>
                </a:solidFill>
                <a:latin typeface="Arial Black"/>
              </a:rPr>
              <a:t>Algebra</a:t>
            </a:r>
            <a:endParaRPr b="0" lang="en-US" sz="4400" spc="-1" strike="noStrike">
              <a:solidFill>
                <a:srgbClr val="36b4be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5 ÷ 5 x 6 + 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No Calcula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2:42:57Z</dcterms:created>
  <dc:creator>snobunny</dc:creator>
  <dc:description/>
  <dc:language>en-US</dc:language>
  <cp:lastModifiedBy>Brian McGrath</cp:lastModifiedBy>
  <dcterms:modified xsi:type="dcterms:W3CDTF">2011-03-06T17:21:17Z</dcterms:modified>
  <cp:revision>33</cp:revision>
  <dc:subject/>
  <dc:title>Category 1  </dc:title>
</cp:coreProperties>
</file>